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890D-112C-4D70-A7C4-A11F1A66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6413-C8C6-4305-8BF0-D85FD1DD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2618-F3B7-4828-A942-15C7052C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BC36-0914-435F-A890-9673313A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48F7-EEAB-46D3-B7D4-5712ADAA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D92-E641-41CD-B35C-1E842923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7C0F-E17D-461C-9932-15E8AAC8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43A3-D8E0-48B8-8B32-150DE79F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41A0-4D0E-4D9A-8EF5-696C9828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A979-8E62-4633-A5C8-9B387C58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5214-DD41-41A8-8246-B021E7D4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5943-E825-4EAA-8CEA-720E8951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8CB3-E37F-4E79-95A3-40CDF426C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Riv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17524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Ali Baba Bernstein’s Sweet Su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427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024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904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190512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21520" y="19051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8328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2136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1905120"/>
            <a:ext cx="7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666880" y="3048120"/>
            <a:ext cx="273060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98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3060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500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940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380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416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4520" y="20574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284472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524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43360" y="1949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57760" y="1949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19520" y="1949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57600" y="1949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179856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8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40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3060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904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3080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924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2057400"/>
            <a:ext cx="3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680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48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647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892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4104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2057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5844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971800" y="3200400"/>
            <a:ext cx="25750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040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205740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832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205740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220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4064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260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416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10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7724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8840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58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53632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971800" y="3124080"/>
            <a:ext cx="259236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2590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3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3720" y="20574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92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936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552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764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2057400"/>
            <a:ext cx="5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2057400"/>
            <a:ext cx="3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32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2172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1520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43960" y="2025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53800" y="20257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743200" y="3276720"/>
            <a:ext cx="284472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8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43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52640" y="2025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67040" y="2025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05480" y="20257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43560" y="2025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81640" y="2025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20080" y="20257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58160" y="20257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48520" y="2025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724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86960" y="20257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1949400" cy="2611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638680" y="3048120"/>
            <a:ext cx="190512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28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268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2076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28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7280" y="20574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572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380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188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996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244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58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0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34680" y="20257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672400" y="2025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00400" y="3048120"/>
            <a:ext cx="18604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4:57:18Z</dcterms:created>
  <dc:creator>New User</dc:creator>
  <dc:description/>
  <dc:language>en-US</dc:language>
  <cp:lastModifiedBy>Rutherford County Schools</cp:lastModifiedBy>
  <dcterms:modified xsi:type="dcterms:W3CDTF">2007-04-22T18:53:07Z</dcterms:modified>
  <cp:revision>12</cp:revision>
  <dc:subject/>
  <dc:title>Rivet</dc:title>
</cp:coreProperties>
</file>